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BBA-346A-41FA-9C4F-13B19F53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AFC-3D91-4AB3-B879-05EA81D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9AB-F679-4A54-8777-3D13C058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945-400A-43AA-B4DD-A44690E4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25A-B42E-4421-9A15-EEA6C1B6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2EA-12B3-4652-8A73-E583D93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3D1-850B-45A5-A646-97BDA962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31E-A748-40DC-B5D6-E1863809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1B0-F432-4FB0-9A4F-25C69B65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CFF-BFCD-43CB-8129-7B885D3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32C-B758-4E09-92C0-DE413591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5D2-7845-4EE7-A300-8A35959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EAD-3872-4E17-AEA2-4411C1FF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рационального использования лесов Сибири должна соответствовать следующим требованиям:</a:t>
            </a:r>
            <a:br>
              <a:rPr sz="24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. Предусматривать необходимость полного обеспечения потребностей  различных отраслей народного хозяйства страны сырьем, получаемым в процессе эксплуатации лесосырьевых баз (древесина, сырье для химической промышленности и др.), рекреационное использование лесов, сбор ягод, грибов, заготовка кедровых орехов, лекарственного сырья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. Осуществлять систему мероприятий, обеспечивающих постоянство лесопользования и неистощимость лесных ресурсов (обязательное лесовосстановление вырубленных лесов, при сохранении их качественного состава, охрана лесов от пожаров, защита лесов от энтомовредителей и др.)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3. Не допускать потери лесами их средообразующих функций (почвозащитных, водоохранных, климатоулучшающих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охранять биоразнообразие различных лесных формаций, т.к. в их составе имеется большое число видов полезных растений (пищевых, кормовых, лекарственных, эфиро-масличных и пряно ароматических, декоративных и др.). Многие из этих видов и форм в настоящее время недостаточно изучены и в перспективе могут представлять большую ценность для различнывх отраслй хозяйства, могут использоваться в качестве исходного материала для интродукции и селекции в сельском хозяйстве, в садово парковом строительстве и озеленении, при рекультивации почв, в защитном лесоразведении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собое внимание должно быть уделено системе подготовки кадров высшей и средней квалификации (институты, техникумы, колледж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Важное место в системе рационаьного использования лесов России должно отводиться науке (разработка порайонной системы ведения лесного хозяйства на типологической основе, лесоустройство и ревизия лесоустройства с использованием современных дистанционных методов, исследования в области лесной генетики и селекции и интродукции растений, разработка методов рубок главного пользования, лесовосстановительных рубок, решение многих вопросов в интересах лесокультурного  производства и д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ервоочередными задачами являю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современного состояния лесов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лю России приходится 73% бореальных лесов мира. Из них около 42% сосредоточено в Сиби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следние десятилетия леса Сибири претерпели существенную антропогенную трансформацию, связанную как с их прямым хозяйственным использованием, так и с повышенным уровнем горимости, вспышками массового размножения дендрофильных насекомых, ухудшением условий роста в результате техногенного загрязнения терри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гарях, шелкопрядниках часто происходит смена хвойных пород на меколиственные. Естественное возобновление задерживается на длительный период. Ситуация усложняется в связи с тем, что значительная часть бореальных лесов растет на вечнй мерзлоте в условиях резкоконтинентального кли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постоянное декларирование классического пинципа русского лесоводства о многоцелевом и неистощительном лесопользовании, лесохозяйственная практика в Сибири в последнее столетие базировалась преимущественно на испоьзовании древесины, охране лесов от пожаров, и защите от вредителей и болез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ьевая направленность лесного хозяйства, развитие сплошнолесосечных рубок главного пользования вследствии доминирования спелых лесов и ориентации на естественное лесовозобновление привели к беспрецендентному по своим масштабам ухудшению состава лесов и качества лесных ресурсов. Изменения в лесном фонде сопровождались снижением продуктивности насаж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оническое недоиспользование расчетной лесосеки в слабо освоенных лесах Сибири также способствовало уменьшению их продуктивности и сниж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ельный вред был нанесен лесам, особенно в наиболее доступных и ценных лесных массивах, деятельностью лесхозов решавших свои финансовые проблемы за счет выборочных рубок (под маркой санитарны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. Разработка стратегии рационального комплексного использования лесных ресурсов на отводимых лесосырьевых базах и само размещение этих баз по территории Сибири. При этом необходимо строго следовать экологической доктрине Российской федерации, одобренной правительством 31 августа 2002 года и продекларированной в концепции стратегии развития лесного комплекса Российской федерации на период до 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 Серьезное внимание должно быть уделено государственной системе управления всей деятельностью лесной промышленности и лесного хозяйства в лесах России. Стройная система лесного хозяйства была разрушена реорганизацией управления в мае 200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Важное место должно быть уделено науке и подготовке кадров. Необходима разработка программы исследований, включающей в себя широкий круг задач, входящих в область лесоведения, частного и общего лесоводства, лесной генетики и селекции, семеноведения и семеноводства, лесных культур, защитного лесоразведен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. Серьезное внимание должно быть уделено разработке порайонной системы организации лесного хозяйства на типологической основе и подготовке нормативных документов регламентирующих разные формы эксплуатации л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 Для решения всех проблем, связанных с рациональным комплексным использованием лесов, необходимо серьезное финансирование и обеспечение материальными ресурсами этой жизненно важной отрасли хозяйств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2:07:29Z</dcterms:created>
  <dc:creator>Banaev</dc:creator>
  <dc:description/>
  <dc:language>en-US</dc:language>
  <cp:lastModifiedBy>Banaev</cp:lastModifiedBy>
  <dcterms:modified xsi:type="dcterms:W3CDTF">2008-05-22T02:26:17Z</dcterms:modified>
  <cp:revision>2</cp:revision>
  <dc:subject/>
  <dc:title>Система рационального использования лесов Сибири должна соответствовать следующим требованиям:   1. Предусматривать необходимость полного обеспечения потребностей  различных отраслей народного хозяйства страны сырьем, получаемым в процессе эксплуатации лесосырьевых баз (древесина, сырье для химической промышленности и др.), рекреационное использование лесов, сбор ягод, грибов, заготовка кедровых орехов, лекарственного сырья и др.  2. Осуществлять систему мероприятий, обеспечивающих постоянство лесопользования и неистощимость лесных ресурсов (обязательное лесовосстановление вырубленных лесов, при сохранении их качественного состава, охрана лесов от пожаров, защита лесов от энтомовредителей и др.).  3. Не допускать потери лесами их средообразующих функций (почвозащитных, водоохранных, климатоулучшающих и др.).</dc:title>
</cp:coreProperties>
</file>